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BCEC-4A67-42D8-B917-B9C91E97A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A875-F0A9-4E8E-BDCF-4A2844D4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720C-B71D-4433-BE1C-CFBEBDDD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21DA-48F7-4244-B92F-9A0350A39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C2FC-5EFD-484F-988F-5DB35554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5F0E-07B4-42B3-ABAC-9BDB9DD9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B8F8-7FB8-4777-8047-87FA56F5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EF16-1A8B-428B-B81B-FBA3FFFD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E2EC-227B-4245-B319-552F6EC5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3862-1B31-4F3D-8762-127BC6DF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999D-0485-46D3-938B-29EB8E1D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6F04-8857-489B-9DAE-95F6589B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2D75-88A8-43AE-9246-EDA883FD1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rial Narrow"/>
              </a:rPr>
              <a:t>Glory to God in the High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lory to God in the highe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peace to God’s peo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rd God, heavenly King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mighty God and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worship you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give you thank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praise you for your gl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rd Jesus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ly Son of the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rd God, Lamb of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take away the sin of the worl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are seated at the right h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Fath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receive our pray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you alone are the Holy On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alone are the Lor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alone are the Most Hig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Jesus Chri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the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glory of God the Father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0:00:20Z</dcterms:created>
  <dc:creator>Anon Anon</dc:creator>
  <dc:description/>
  <dc:language>en-US</dc:language>
  <cp:lastModifiedBy>Anon Anon</cp:lastModifiedBy>
  <dcterms:modified xsi:type="dcterms:W3CDTF">2005-08-09T05:26:53Z</dcterms:modified>
  <cp:revision>10</cp:revision>
  <dc:subject/>
  <dc:title>PowerPoint Presentation</dc:title>
</cp:coreProperties>
</file>